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6858000" cy="9144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37880" y="146160"/>
            <a:ext cx="658224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OU ARE IN THE BLOCK TOTAL FUNCTION                        SIC:   AV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*BTC  SRC  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                                 * TBO  ONL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      TYPE      C    JULIAN        TOTAL         PAY ST      T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BER      ACTION     I     DATE        AMOUNT          DSSN     NUMBER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    ________     _________      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 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0760" y="8528040"/>
            <a:ext cx="3467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                                                         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26708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01992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00520" y="45576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11240" y="60948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11240" y="91440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25440" y="129528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25440" y="167652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2800" y="2436840"/>
            <a:ext cx="6148080" cy="29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 FUNCTION       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44560" y="51814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6480" y="5484960"/>
            <a:ext cx="6148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60760" y="6703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9560" y="8010360"/>
            <a:ext cx="6094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542304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7520" y="8458200"/>
            <a:ext cx="6235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542304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7520" y="5410080"/>
            <a:ext cx="6222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40" y="8528040"/>
            <a:ext cx="6379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                                                        19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00520" y="37944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3680" y="243684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56200" y="380844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8720" y="533232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240" y="8528040"/>
            <a:ext cx="6411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                                                        21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00520" y="37944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3680" y="243684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56200" y="380844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8720" y="533232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240" y="8528040"/>
            <a:ext cx="6411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                                                        23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53160" y="91296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2800" y="2894040"/>
            <a:ext cx="6148080" cy="32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TRAVEL ADV FUNCTION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A    SCR 03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DUE                LAST     U  ORDER   VOUCHER           RECLS/       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DATE  EOR  APC ODC NAME SSN C  NUMBER   NUMBER   AMOUNT  WR-OFF  IBOP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 _ ____  ___  ___ ___ ____ ___ _  ______   _______  ______  ___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7560" y="10666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240" y="8528040"/>
            <a:ext cx="6411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                                                        25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84200" y="175248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84200" y="21337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81080" y="137160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52280" y="228600"/>
            <a:ext cx="6477120" cy="927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VOUCHER OR SUBVOUCHER  (Completed by typewriter, ink    10.    FOR DO USE ONLY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all point pen, not pencil)     DO VOUCHER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AD PRIVACY ACT STATEMENT PRIOR TO COMPLETING THIS FO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69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AST NAME -FIRST NAME-INITIAL  GRADE/RANK   SS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RMSTRONG, JACK T.            SFC          161-72-0172         SUBVOUCHER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HECK MAILING ADDRESS (ZIP CODE)            DUTY PHONE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222                      PAID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GANZATION AND 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HQ,  FT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AVEL ORDERS (Paragraph, S.O. No. Issuing HQ)                      23RD FINANCE B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O 12-9  HQ FT STEWART, GA 31314 DTD  6 DEC**                     FT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DSN:  634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OR TRAVEL PAYMENTS OR ADVANCE UNDER THESE ORD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Amount, Dov No. Date, If none, so st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$100.00  DOV 406202, DTD 11 DEC **, FT STEWART GA                       31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.  ITINERARY (Item 25 for Symbols)  2.     3. NBR      4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LOCAL      PLACE           REA  COST   OF MEAL    P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**    TIME    (Home,Office,  MOD SON    OF   GOVT\OPN   MI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24HOUR) Base, City,ST) TVL STP  LODG.   /M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P                         ***          /DED       **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RR                     ***                                         COMPUT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STUDENT NOTE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OR:        21T1    21T2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BLIG/AEE  55.00   100.00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ISBURSE   65.00   100.00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DJUST    $_____ $_____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*ASSUME THAT VOUCHER IS COMPLETE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5.   REIMBURSEABLE EXPENSE/CHARGE FOR DEDUCTIBLE ME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NATURE AND EXPLANATION       AMT CLMD    ALLO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UMMARY OF PAY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R DIEM              1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UAL EXPEN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.  Long distance telephone calls are   APPROVING OFFICER     MILEAGE OR TRANSP      6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ertified interest of Government.                             REIMBURSABLE EXP        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.            TR’s/MTA’s/MT’s (if none so state)              TOTAL ENTITLEMENT     16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UMBER             FROM                TO                  LESS PREVIOUS PAY       0.00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ESS VOU DEDUCTION    1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MT CHG ACCT CLASS    16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PAYMENT DESI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 CHECK [ ]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8. LEAVE STATEMENT:    DAYS       HRS BETWEEN     AND         12.[ ] PER DIEM REQUES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POC TRAVEL:  [ ] OWNER/OPERATOR  [ ] PASSENGER             13.[ ] BAS R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NALTU:  THE PENTALTY FOR A FALSE CLAIM IS MAXIMUM FINE OF $10,000.00/INPRISONMENT 5 YRS.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 hereby claim any amount due me. The  14.  SIGNATURE OF CLAIMANT             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tatements are true and complete.                   /S/                        30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5.  ACCOUNTING CLASSIF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1 ARM0172TT12009/N102 S09076  $ 6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2 ARM0172TT12009/N102 S09076  $1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  COLLECTION 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202096.NB-4110 ARM01720012009/N102 S09076  (**028)  $1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COMPUTED   18. AUDITED  19. TVL RCRD  20. RECEIVED (SIGNATURE/DTD CK NO)  21.AMOUNT PAI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/S/          /S/           68904                             $6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8760" y="693432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19720" y="235080"/>
            <a:ext cx="0" cy="669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8760" y="670572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25840" y="6781680"/>
            <a:ext cx="220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8760" y="708660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8760" y="723888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8760" y="6400800"/>
            <a:ext cx="608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54640" y="6400800"/>
            <a:ext cx="37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25840" y="6553080"/>
            <a:ext cx="220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2280" y="624852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8760" y="617220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8760" y="5867280"/>
            <a:ext cx="64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6629400" y="5867280"/>
            <a:ext cx="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25840" y="6019920"/>
            <a:ext cx="220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280" y="571500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8760" y="556272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8760" y="541008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8760" y="533412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8760" y="51814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8760" y="502920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5187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95480" y="5187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5187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9520" y="60260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193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8760" y="762012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8760" y="7924680"/>
            <a:ext cx="64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7626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7626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8760" y="845820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8760" y="274320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8760" y="28954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8760" y="327672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3520" y="2901960"/>
            <a:ext cx="0" cy="21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8760" y="342900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8760" y="35812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8760" y="876312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43000" y="8769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057400" y="8769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8120" y="8769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86400" y="8769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8760" y="38098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8760" y="39625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8760" y="41148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8760" y="42670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8760" y="44197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8760" y="45720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8760" y="49528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8760" y="48006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8760" y="47242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86200" y="2749680"/>
            <a:ext cx="0" cy="22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25840" y="3429000"/>
            <a:ext cx="220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25840" y="3581280"/>
            <a:ext cx="220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39640" y="3657600"/>
            <a:ext cx="295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505320" y="3664080"/>
            <a:ext cx="0" cy="13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505320" y="380988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505320" y="396252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11440" y="4114800"/>
            <a:ext cx="311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11440" y="4343400"/>
            <a:ext cx="311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05320" y="449568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505320" y="464832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505320" y="480060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05320" y="495288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25840" y="5181480"/>
            <a:ext cx="220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43000" y="290196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09680" y="290196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38280" y="290196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43200" y="27496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00400" y="27496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81280" y="3435480"/>
            <a:ext cx="0" cy="158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58760" y="213372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8760" y="17524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8760" y="137160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8760" y="10666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8760" y="8380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1066680"/>
            <a:ext cx="219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25840" y="914400"/>
            <a:ext cx="220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25840" y="380880"/>
            <a:ext cx="220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58760" y="533520"/>
            <a:ext cx="212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86000" y="2350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92480" y="533520"/>
            <a:ext cx="212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31760" y="8915400"/>
            <a:ext cx="299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351-2  1 JUN 78 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791320" y="556884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0" y="844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24080" y="844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24080" y="10731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4920" y="8918640"/>
            <a:ext cx="65530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00160" y="2055960"/>
            <a:ext cx="62852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2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76480" y="3656160"/>
            <a:ext cx="6148080" cy="132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TRAVEL ADV FUNCTION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A    SCR 03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DUE                LAST     U  ORDER    VOUCHER          RECLS/       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DATE  EOR  APC ODC NAME SSN C  NUMBER   NUMBER   AMOUNT  WR-OFF  IBOP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 _ ____  ___  ___ ___ ____ ___ _  ______   _______  ______  ___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0160" y="5103720"/>
            <a:ext cx="614808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6480" y="6558120"/>
            <a:ext cx="60796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0760" y="8528040"/>
            <a:ext cx="3499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                                                        2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00520" y="304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835280" y="458640"/>
            <a:ext cx="455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31920" y="114444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31920" y="152568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828800" y="76356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240" y="8528040"/>
            <a:ext cx="6411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                                                        29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240" y="8528040"/>
            <a:ext cx="6411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                                                        31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59280" y="91908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2800" y="2894040"/>
            <a:ext cx="6148080" cy="32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FUNCTION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8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  F                            DOCUMENT           F                      FORE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   EOR    APC    ODC         NUMBER            I   AMOUNT    NAME    CURRENC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3680" y="38862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6840" y="3886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301760" y="3886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82640" y="38862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68440" y="3886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749680" y="3886200"/>
            <a:ext cx="128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349880" y="38862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54440" y="38862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187960" y="38862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950080" y="388620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44560" y="5791320"/>
            <a:ext cx="53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240" y="8750160"/>
            <a:ext cx="6411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                                                        33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05120" y="1066680"/>
            <a:ext cx="455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905120" y="1371600"/>
            <a:ext cx="455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75248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295280" y="21337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00160" y="2284560"/>
            <a:ext cx="62852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6480" y="4195800"/>
            <a:ext cx="607968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240" y="8750160"/>
            <a:ext cx="6411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                                                        35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45080" y="45720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752480" y="609480"/>
            <a:ext cx="4496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752480" y="914400"/>
            <a:ext cx="4496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66680" y="129528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66680" y="167652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9440" y="2443320"/>
            <a:ext cx="64224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- RDTE/MANHOUR  FUNCTION      BLOCK NUMBER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100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  VOUCHER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 NUMBER    NUMBER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1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*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80-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10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DPA6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PA01CA6103348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_____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11664-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7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__  __   ____  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1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*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20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DPA6</a:t>
            </a:r>
            <a:r>
              <a:rPr b="0" i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PA01CA6103348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_____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824-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7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__  __   ____    _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62560" y="1909800"/>
            <a:ext cx="20332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00" y="8528040"/>
            <a:ext cx="6315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                                                         5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MAN  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HRS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 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 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553080" y="5334120"/>
            <a:ext cx="0" cy="67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9240" y="8750160"/>
            <a:ext cx="6411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                                                        37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553080" y="2368440"/>
            <a:ext cx="0" cy="365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553080" y="54100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9240" y="8750160"/>
            <a:ext cx="6379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                                                        39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00160" y="2284560"/>
            <a:ext cx="62852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76480" y="4195800"/>
            <a:ext cx="607968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240" y="8750160"/>
            <a:ext cx="6379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                                                        41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4508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9704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9704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8756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8756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99440" y="2443320"/>
            <a:ext cx="64224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  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  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240" y="8750160"/>
            <a:ext cx="6379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                                                        43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553080" y="5410080"/>
            <a:ext cx="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9240" y="8750160"/>
            <a:ext cx="6379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                                                        45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59280" y="91908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52800" y="2894040"/>
            <a:ext cx="6148080" cy="32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FUNCTION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8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  F                            DOCUMENT           F                      FORE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   EOR    APC    ODC         NUMBER            I   AMOUNT    NAME    CURRENC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63680" y="38862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96840" y="3886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301760" y="3886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82640" y="38862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68440" y="3886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749680" y="3886200"/>
            <a:ext cx="128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349880" y="38862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654440" y="38862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187960" y="38862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950080" y="388620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44560" y="5791320"/>
            <a:ext cx="53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9240" y="8750160"/>
            <a:ext cx="6379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                                                        47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17720" y="10666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17720" y="137160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308240" y="175248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308240" y="21337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208080" y="2513160"/>
            <a:ext cx="64166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76480" y="4653000"/>
            <a:ext cx="607968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240" y="8750160"/>
            <a:ext cx="6379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                                                        49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07000" y="5335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828800" y="6858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752480" y="99072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19320" y="1371600"/>
            <a:ext cx="510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143000" y="1752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553080" y="236232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553080" y="548640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240" y="8750160"/>
            <a:ext cx="6379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                                                        51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880" y="6089760"/>
            <a:ext cx="635364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 WITNESS WHEREOF, THE PARTIES HERETO HAVE EXECUTED THIS CONTRACT AS OF THE 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TERED ON THE FIRST PAGE HEREOF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UNITED STATES OF AMERICA                      CONTRA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S/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Y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    WENDELL PURCHASE, LTC, INF  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SMITH BROTHER’S BLDG &amp; SUPPLY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NAME OF CONTRACTO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PURCHASING &amp; CONTRACTING OFFICER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BY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         /S/  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OFFICIAL TITLE)                         (SIGNATUR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.         PARTNER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TIT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STR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THE FULL NAME AND BUSINESS ADDRESS OF THE CONTRACTOR MUST BE INSERTED IN THE SPACE PROVIDE O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FACE OF THE FORM.  THE CONTRACTOR SHALL SIGN IN THE SPACE PROVIDED ABOVE WITH HIS USUAL SIGNATURE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TYPEWRITE OR PRINT HIS NAME UNDER THE SIGNATUR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240" y="8750160"/>
            <a:ext cx="6379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                                                        53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359280" y="91908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52800" y="2894040"/>
            <a:ext cx="6148080" cy="32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FUNCTION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8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  F                            DOCUMENT           F                      FORE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   EOR    APC    ODC         NUMBER            I   AMOUNT    NAME    CURRENC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63680" y="38862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996840" y="3886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301760" y="3886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682640" y="38862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368440" y="3886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49680" y="3886200"/>
            <a:ext cx="128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349880" y="38862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654440" y="38862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187960" y="38862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950080" y="388620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44560" y="5791320"/>
            <a:ext cx="53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9240" y="8750160"/>
            <a:ext cx="6379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                                                        55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917720" y="10666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17720" y="137160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308240" y="175248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308240" y="21337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01960" y="385920"/>
            <a:ext cx="5393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9440" y="244332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- RDTE/MANHOUR  FUNCTION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 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00" y="8528040"/>
            <a:ext cx="6315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                                                         7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208080" y="2513160"/>
            <a:ext cx="64166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76480" y="4653000"/>
            <a:ext cx="607968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9240" y="8750160"/>
            <a:ext cx="6379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                                                        57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52480" y="68580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752480" y="9907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143000" y="13716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143000" y="175248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84680" y="5335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240" y="8750160"/>
            <a:ext cx="6379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                                                        59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3080" y="525780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9240" y="8750160"/>
            <a:ext cx="6379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                                                        61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59280" y="91908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52800" y="2894040"/>
            <a:ext cx="6148080" cy="32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FUNCTION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8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  F                            DOCUMENT           F                      FORE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   EOR    APC    ODC         NUMBER            I   AMOUNT    NAME    CURRENC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63680" y="38862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96840" y="3886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301760" y="3886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682640" y="38862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368440" y="3886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749680" y="3886200"/>
            <a:ext cx="128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349880" y="38862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54440" y="38862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187960" y="38862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950080" y="388620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44560" y="5791320"/>
            <a:ext cx="53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600" y="8750160"/>
            <a:ext cx="6347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                                                        63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917720" y="10666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917720" y="137160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308240" y="175248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308240" y="21337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199800" y="2513160"/>
            <a:ext cx="6422400" cy="488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 FUNCTION       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2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_  ____  ___  ____   ___________  __________ __  _______ ____  ____ 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    BLOCK NUMBER ______     SIC: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DOCUMENT    L                     F       OBS/   CASH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EAR  EOR  APC  ODC   NUMBER     I  AMOUNT    NAME     C       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 __    ___  ___  ___  ________  ___  ______   ________  ___   _______   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 __    ___  ___  ___  ________  ___  ______  _________  ___   _______   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240" y="8750160"/>
            <a:ext cx="6411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                                                         65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7000" y="60948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752480" y="76212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752480" y="106668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143000" y="144792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43000" y="182880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880" y="8610480"/>
            <a:ext cx="6278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    67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8520" y="8610480"/>
            <a:ext cx="6374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      69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131760" y="139680"/>
            <a:ext cx="658224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OU ARE IN THE BLOCK TOTAL FUNCTION                        SIC:   AV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*BTC  SRC  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                                 * TBO  ONL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      TYPE      C    JULIAN        TOTAL         PAY ST      T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BER      ACTION     I     DATE        AMOUNT          ADSN     NUMBER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 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01992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8160" y="8521560"/>
            <a:ext cx="647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          71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206280" y="385920"/>
            <a:ext cx="3542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99800" y="2443320"/>
            <a:ext cx="62852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-TBO FUNCTION          BLOCK NUMBER______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VOUCHER   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EAR   EOR  APC   ODC     NUMBER         NUMBER   I  AMOUNT IB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  __    ___  ___   ___   ___________     _______  ___ ______  ___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  __    ___  ___   ___   ___________     _______  ___ ______  ___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880" y="8521560"/>
            <a:ext cx="6278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    73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5840" y="379440"/>
            <a:ext cx="5393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3320" y="243684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- RDTE/MANHOUR  FUNCTION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 NUMBER  NUMBER    AMOUNT  PAID  IBOP I   DEOBS 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 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56200" y="380844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8720" y="533232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240" y="8528040"/>
            <a:ext cx="6379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                                                         9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206280" y="385920"/>
            <a:ext cx="3542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99800" y="2443320"/>
            <a:ext cx="63536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-TBO FUNCTION          BLOCK NUMBER______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VOUCHER   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EAR   EOR  APC   ODC     NUMBER         NUMBER   I  AMOUNT IB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  __    ___  ___   ___   ___________     _______  ___ ______  ___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8520" y="8521560"/>
            <a:ext cx="6342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       75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0520" y="37944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3320" y="243684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 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56200" y="380844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8720" y="533232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240" y="8528040"/>
            <a:ext cx="6411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                                                        11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00520" y="37944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3320" y="243684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 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56200" y="380844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8720" y="533232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556272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240" y="8528040"/>
            <a:ext cx="6379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                                                        13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0520" y="37944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3680" y="2436840"/>
            <a:ext cx="62852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- RDTE/MANHOUR  FUNCTION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  L                 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 NUMBER    I  AMOUNT  NAME          C   DEOBS 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  _____  ________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  _____  ________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56200" y="380844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8720" y="533232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00" y="8528040"/>
            <a:ext cx="6347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                                                        15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00520" y="37944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4040" y="243684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56200" y="380844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8720" y="533232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240" y="8528040"/>
            <a:ext cx="6379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                                                        17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31760" y="227160"/>
            <a:ext cx="6541920" cy="88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VOUCHER OR SUBVOUCHER  (Completed by typewriter, ink    10.    FOR DO USE ONLY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all point pen, not pencil)     DO VOUCHER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AD PRIVACY ACT STATEMENT PRIOR TO COMPLETING THIS FO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69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AST NAME -FIRST NAME-INITIAL  GRADE/RANK   SS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WILSON, JOHN D.                 CPT      256-54-9701         SUBVOUCHER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HECK MAILING ADDRESS (ZIP CODE)            DUTY PHONE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420                      PAID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GANZATION AND 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OMPTROLLER OFFICE,  FT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AVEL ORDERS (Paragraph, S.O. No. Issuing HQ)                      23RD FINANCE B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O 12-7  HQ FT STEWART, GA 31314 DTD  6 DEC**                     FT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DSN:  634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OR TRAVEL PAYMENTS OR ADVANCE UNDER THESE ORD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Amount, Dov No. Date, If none, so st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NE                                               31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.  ITINERARY (Item 25 for Symbols)  2.     3. NBR      4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LOCAL      PLACE           REA  COST   OF MEAL    P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**    TIME    (Home,Office,  MOD SON    OF   GOVT\OPN   MI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24HOUR) Base, City,ST) TVL STP  LODG.   /M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P                         ***          /DED       **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RR                     ***                                         COMPUT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STUDENT NOTE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OR:        21T1    21T2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BLIG/AEE  35.00   150.00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ISBURSED  35.00   141.00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DJUST    $______ $_____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*ASSUME THAT VOUCHER IS COMPLETE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5.   REIMBURSEABLE EXPENSE/CHARGE FOR DEDUCTIBLE ME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NATURE AND EXPLANATION       AMT CLMD      ALLO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UMMARY OF PAY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R DIEM              137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UAL EXPEN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.  Long distance telephone calls are   APPROVING OFFICER     MILEAGE OR TRANSP      3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ertified interest of Government.                             REIMBURSABLE EXP        4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.            TR’s/MTA’s/MT’s (if none so state)              TOTAL ENTITLEMENT     176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UMBER             FROM                TO                  LESS PREVIOUS PAY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ESS VOU DEDUCTION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MT CHG ACCT CLASS    176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PAYMENT DESI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 CHECK [ ]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8. LEAVE STATEMENT:    DAYS       HRS BETWEEN     AND         12.[ ] PER DIEM REQUES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POC TRAVEL:  [ ] OWNER/OPERATOR  [ ] PASSENGER             13.[ ] BAS R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NALTU:  THE PENTALTY FOR A FALSE CLAIM IS MAXIMUM FINE OF $10,000.00/INPRISONMENT 5 YRS.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 hereby claim any amount due me. The  14.  SIGNATURE OF CLAIMANT             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tatements are true and complete.                   /S/                        30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5.  ACCOUNTING CLASSIF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1 WIL9701TT12007/N103 S09076  $ 3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2 WIL9701TT12007/N103 S09076  $141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  COLLECTION 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COMPUTED   18. AUDITED  19. TVL RCRD  20. RECEIVED (SIGNATURE/DTD CK NO)  21.AMOUNT PAI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/S/          /S/                 /S/   31 DEC **              $176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8760" y="69343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235080"/>
            <a:ext cx="0" cy="669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8760" y="6705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25840" y="678168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8760" y="70866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8760" y="72388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8760" y="6400800"/>
            <a:ext cx="608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54640" y="6400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5840" y="655308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8760" y="6248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8760" y="6172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8760" y="5867280"/>
            <a:ext cx="64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35880" y="586728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25840" y="601992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8760" y="57150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8760" y="5562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8760" y="54100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8760" y="533412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8760" y="51814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8760" y="502920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5187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5187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5187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60260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193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8760" y="7620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8760" y="7924680"/>
            <a:ext cx="64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10080" y="7626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7626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8760" y="8458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8760" y="274320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8760" y="28954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8760" y="327672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2901960"/>
            <a:ext cx="0" cy="21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8760" y="342900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8760" y="350532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8760" y="36576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8760" y="8763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8769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8769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8120" y="8769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8769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8760" y="38098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8760" y="39625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8760" y="41148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8760" y="42670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8760" y="44197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8760" y="45720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8760" y="49528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" y="48006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8760" y="47242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6200" y="2749680"/>
            <a:ext cx="0" cy="22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25840" y="342900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25840" y="350532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92680" y="3657600"/>
            <a:ext cx="280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3657600"/>
            <a:ext cx="295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05320" y="3664080"/>
            <a:ext cx="0" cy="13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11440" y="3809880"/>
            <a:ext cx="318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92680" y="3962520"/>
            <a:ext cx="280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11440" y="4114800"/>
            <a:ext cx="318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92680" y="4191120"/>
            <a:ext cx="280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11440" y="4343400"/>
            <a:ext cx="318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92680" y="4495680"/>
            <a:ext cx="280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11440" y="4648320"/>
            <a:ext cx="318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92680" y="4800600"/>
            <a:ext cx="280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92680" y="4952880"/>
            <a:ext cx="280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25840" y="518148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290196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90196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38280" y="290196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43200" y="27496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27496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3435480"/>
            <a:ext cx="0" cy="158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8760" y="213372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8760" y="17524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8760" y="137160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8760" y="10666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8760" y="8380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02160" y="1066680"/>
            <a:ext cx="219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25840" y="91440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25840" y="38088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8760" y="533520"/>
            <a:ext cx="212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0" y="2350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92480" y="533520"/>
            <a:ext cx="212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4200" y="9066240"/>
            <a:ext cx="3404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351-2  1 JUN 78 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91320" y="556884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844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844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10731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24160" y="9055080"/>
            <a:ext cx="3557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B                     18                                         Dec 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7T12:06:18Z</dcterms:created>
  <dc:creator>Soldier Support Institute</dc:creator>
  <dc:description/>
  <dc:language>en-US</dc:language>
  <cp:lastModifiedBy>Administrator</cp:lastModifiedBy>
  <cp:lastPrinted>2000-01-13T16:00:53Z</cp:lastPrinted>
  <dcterms:modified xsi:type="dcterms:W3CDTF">2005-05-02T18:52:40Z</dcterms:modified>
  <cp:revision>29</cp:revision>
  <dc:subject/>
  <dc:title>No Slide Title</dc:title>
</cp:coreProperties>
</file>